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874B-4364-4B5E-AEF1-74FB4D4A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BD3E-BA95-4F4B-AEA2-58BFA240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2D6-D44F-41FE-9280-143F2D51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A1A-3BA1-4CCF-BABF-B315BF8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4EE-636A-434F-BBB8-559BDE49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3B9-28C5-4528-AF6F-42A821DD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67F-80A7-404D-A442-D3375A4E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412-86BF-4EAF-B246-B6DD4FD1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BA0-9D3E-4CFE-8FAA-9A3D996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794-A04E-406E-99BF-A0DC4798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D91-2E49-4C44-BDAC-6AA4E88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DDF-99E0-439E-A5C8-23F8C65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823-46E0-4587-B55E-D38241C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AF6-6F6A-4D6E-95F9-9FF5EA7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1d7c"/>
            </a:gs>
            <a:gs pos="50000">
              <a:srgbClr val="0066ff"/>
            </a:gs>
            <a:gs pos="100000">
              <a:srgbClr val="ef1d7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985-9894-452D-855C-C10B05373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c/Kennedy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-cri43ttT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the most prominent conspiracy theories surrounding the JFK assassinat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38120" y="358092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hley West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 M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FK"/>
          <p:cNvPicPr/>
          <p:nvPr/>
        </p:nvPicPr>
        <p:blipFill>
          <a:blip r:embed="rId1"/>
          <a:stretch/>
        </p:blipFill>
        <p:spPr>
          <a:xfrm>
            <a:off x="457200" y="2895480"/>
            <a:ext cx="25909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/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me for Oswald to shoot 3 bullets and aim that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his position, could not have hit Kennedy’s neck and governor Conn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from the front, not where Oswald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itnesses that claimed to have seen 2 revoked their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cordings of second gunman, no proof besides window shield cracks and head explos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SR/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s fed up with Kennedy’s approac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ays KGB recruited Oswald to their cause while he was in the USSR and used him to kill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ro wanted revenge for the assassination attempt on his life. Was made aware of Oswald by an unknown source and hired him to kill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/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received by FBI shows from KGB that USSR had plans to kill numerous political leaders, including JF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wald was in the Soviet for a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of at scene of crime or in later reviewe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e gunman theory was most likely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gunman is also very likely and has too many coincid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s show evidence: lines of sight, smoke, cracked windshield, explosion pattern of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would have only been possible with 2 or more gun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assination, 1963 (the. "Who Killed Kennedy And Why? - CoverUps.com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verUps.com - Great CoverUps, Silly CoverUps, Media CoverUps, and Movie CoverUp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b. 09 June 2010. &lt;http://www.coverups.com/jfk/who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The Conspiracy Theorie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nneth A. Rahn's Home P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kenrahn.com/jfk/conspiracy_theories/Texas_Monthly/Texas_Monthly_The_Consp_Theorie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JFK Assassination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maryferrell.org/wiki/index.php/JFK_Assassination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JFK Assassination Research Material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FK Assassination Research Materials; K6LCS Amateur Rad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jfk-info.com/index2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JFK Conspiracy Theorie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biblio.org - 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ibiblio.org/pub/electronic-publications/stay-free/4/jfk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onspiration Theories on the Assassination of John F. Kennedy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ZTE STUD - Hallgatói Szer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www.stud.u-szeged.hu/Stenczer.Peter.Pal/Essay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Adams, John. "JFK / The Kennedy Assassination Home Page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nnedy Assassination Home Page Ind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eb. 09 June 2010. &lt;http://mcadams.posc.mu.edu/home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le:Kennedy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730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52280" y="4876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F. Kennedy, Gov. Connelly, and their wives driving down Dealey Plaza minutes before the assass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b/bc/Kennedyb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, November 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963 in Dallas, Texas at 12:30 in the 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driven in a limo down Dealey Plaza with his wife, Jackie, and Governor Connelly and his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nedy was assassinated when 3 shots were suddenly f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hed to Parkland hospital and pronounced dead at 1:00 p.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listverse.files.wordpress.com/2007/09/jfk2.gif"/>
          <p:cNvPicPr/>
          <p:nvPr/>
        </p:nvPicPr>
        <p:blipFill>
          <a:blip r:embed="rId1"/>
          <a:stretch/>
        </p:blipFill>
        <p:spPr>
          <a:xfrm>
            <a:off x="0" y="0"/>
            <a:ext cx="6253200" cy="4038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920" y="5105520"/>
            <a:ext cx="822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5720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F. Kennedy is pronounced dead on Nov.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63 at Parkland Hospital at 1:00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listverse.files.wordpress.com/2007/09/jfk2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209680" y="5103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I-cri43t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ruder Fil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838080" y="0"/>
            <a:ext cx="76201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Zaprude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by Abraham Zapruder, a womans clothes manufacerer who was shooting a home video of JFK’s motorcade passing through Daeley plaza, and as a result captured JFK’s assassination on tape, on what became known as the “Zapruder Film”, which is regarded as “the most complete” video of the Kennedy assass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ble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e Gunma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Gunma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/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e Gunma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 and killed by Lee Harvey Osw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 3 times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ssed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back of his neck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 of his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it governor Connelly with second 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wald was the only person involved in this assassination with this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/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that was fired matched the rifle that was found where Oswald was h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es claimed to have see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fire the three shots as fast as h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n’t admit to it, and was shot himself 2 day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Gunma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one man shot at Kenn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to be hiding under the underpass or in a grassy kn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laim Zapruder film shows at least one bullet being shot from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shield cracked in a way that some claim proves a bullet was shot from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7:43:00Z</dcterms:created>
  <dc:creator>62378</dc:creator>
  <dc:description/>
  <dc:language>en-US</dc:language>
  <cp:lastModifiedBy>Bruce Westman</cp:lastModifiedBy>
  <dcterms:modified xsi:type="dcterms:W3CDTF">2010-06-10T01:27:36Z</dcterms:modified>
  <cp:revision>42</cp:revision>
  <dc:subject/>
  <dc:title>JFK Assassination Conspiracy Theories</dc:title>
</cp:coreProperties>
</file>